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5E17-BC07-4A9A-97E5-415EAF9C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980-AD6A-4A6C-8658-8CF9FE59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CBD-D877-4C0F-8B87-88BD2134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80C-F3ED-467A-8E3E-50123987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C333-66D2-4BE6-ABF2-96F2BE3F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AB17-9253-4EF2-BC92-0C242DC1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B8BF-DD21-42A7-A0DF-20320655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CCA5-5FBE-4E74-A26B-8E5721F1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CCBB-FA7B-4368-8780-81931779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D578-46FC-47B5-A692-3911BA38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7EEF-C9FC-4C92-83F2-98014CC0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D38-2B85-4EB4-AC6A-62F14CF9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0624-5DCE-4F44-994D-A90DD491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2A59-6435-4B5A-8571-AD76A5EF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CEE6-1E4D-45B7-99A8-4515C905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B5A0-E2F3-48B0-A70F-4EDCC9E4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C40A-094F-42CD-B57B-BA363999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AD20F-69AD-4AA7-AAE2-F3DF20AA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F1D10-0FBF-414E-A492-4D4A6BC1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5CC14-7545-4B0D-8EB7-C41062C8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AFE99-DA99-4823-8056-89D3F13A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8700E-507A-4864-98FD-902030BE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003-9121-4305-9F06-7FF5AEB9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9A8DE-4C4B-4764-B5C2-9B49CCC1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A4747-C8A0-4B18-8E6A-29625C3B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ED0D1-F723-4A68-A8AE-B8ED3C95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ED9F8-5B4B-4DDA-8986-AEA60CB6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AF0B8-BFAB-4A50-ABAA-B6BE9092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04393-EECC-457A-B46D-1CD81885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A566E-29C7-4EEC-8911-D21B8FD6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D4E48-67B1-40E5-8D5B-7E7BBD09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5D729-266B-4E87-BF45-3883B0B7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4B23A-9B76-4307-B9AD-1736F0ED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7BFB-8075-4EF5-9AD7-5A9FB1A9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A4EFB-93A9-4D3B-9295-D68EBDC4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35634-5250-437D-8C84-7434A281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967EF-0164-4B99-9A08-E3D2C25F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1A9FE-05CB-4E9B-BDCD-6BF60D82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441A6-6821-4E21-995D-5C192443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CDD9D-DB3C-41A6-A677-0AB26591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83137-DCB0-4043-8796-66AC94A1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24B58-D0B3-4571-8B0B-137B935B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09C94-EF6A-48D0-A059-801B910E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AC476-307A-43B3-8392-318099F5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FD2-E5F2-4938-9E2D-290F1365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460A4-9E70-4814-853E-AA3DA807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9D4BE-9C4F-407C-A94B-84A66434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6E414-663C-4B50-8EA2-74461600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7CC76-9894-4291-BAA3-769DA5FB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7A36F-0737-4E1F-9751-D44BC586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F7F5F-C16C-42A3-B825-D7FC24D6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FCF61-84CA-4A51-9B27-FAF1FD2C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BFA56-7ED0-47D1-9D13-95682B8A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C98D8-0BB3-4332-9369-C2395147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EBDF3-D511-409A-A85C-A55D1D6C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E9A-E3A8-4A7A-A0C0-6AC5A8AC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4A1E5-6787-47EA-970E-F92A864A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C1A31-C9A2-4D9C-8C28-F9EC57A7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08CDC-74FA-4E76-942D-D0705C2E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B82BB-B2F0-43BB-A7F5-58EF1F61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99D9A-BDC1-4029-9D15-8A899B88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C9066-4BC8-4499-8679-CD886BD6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EDCD9-5DB7-490B-AEAB-F6DDCB5F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AEFD4-9AEA-4A42-9014-AFC5EBC7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4635D-7E71-4E13-954D-F885CC5F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3F2FB-0DD8-4209-9968-AC74A33E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620-03B3-4919-9702-EF90BAA3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7E8B4-6377-46FC-8B03-8F0331CC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E14D8-4118-4420-9A6F-F8DF741B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EAD23-4E9A-443F-B49B-E723A352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E89-08C8-429C-A04B-E25CFF20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FC3-C46F-4E36-A70C-A05F347F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5731-048C-45DE-962B-BA285DE5356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3382-656C-48DD-98DD-A6294E1D218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3090-2266-42E4-8CAD-2898FBC5195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4681-D4B9-41B9-B919-3FC26BADD49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82CD-934D-4533-BA1E-3BC9F21E406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BF4C-A248-48C2-80C1-DAE9B819D41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682560" y="2000160"/>
            <a:ext cx="4511880" cy="2443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5810400" y="228600"/>
            <a:ext cx="33336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atterns of Evolu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 have previously discussed microev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n we look with a broad scope, we can discuss macroev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ral factors are important for macroev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tinc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arth’s history is marked with mass extinc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se are important as they wipe out many species, giving those that survive a chance to flouris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daptive Radi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call Darwin’s observations of the finch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t times, a single species can yield multiple forms of unique spec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groups would have to be separated by some mea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can be thought of as a type of divergent ev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vergent Evolu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though species most fit for their environment, at times different environments can resemble each 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th similar shaping factors, two unique species, continents apart, can evolve to a point where they look the sa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2286000" y="4495680"/>
            <a:ext cx="4341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evolu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me organisms almost have a sort of symbio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ce they are closely linked, their evolution patterns often intertwin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change in response to each 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hanges in Frequenc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As mentioned before, there are five requirements for genetic stability in a popul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Specific cases can break that sta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In small populations, genetic drift can become an iss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These are due to chance al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One example is the founder effe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6094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This is when a few individuals colonize in a new habit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A second is the bottleneck effe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Here, a disaster or catastrophe will reduce the population at rand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685800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6840" y="5105160"/>
            <a:ext cx="746748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You can think of these as a reduction in the population’s biodivers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914400" y="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ypes of Natural Selec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though Darwin described natural selection as a method for evolution, we can look deep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three typ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6840" y="533160"/>
            <a:ext cx="74674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bilizing Sel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spcBef>
                <a:spcPts val="649"/>
              </a:spcBef>
              <a:buClr>
                <a:srgbClr val="6ea0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favours the mor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on phenotypes, 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iminates the extre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5551560" y="1066680"/>
            <a:ext cx="3592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6840" y="533160"/>
            <a:ext cx="74674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rectional Sel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spcBef>
                <a:spcPts val="649"/>
              </a:spcBef>
              <a:buClr>
                <a:srgbClr val="6ea0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re, only one extreme variant is favor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514440">
              <a:spcBef>
                <a:spcPts val="649"/>
              </a:spcBef>
              <a:buClr>
                <a:srgbClr val="6ea0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is usually due to changing environmental conditions or habitat chan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60912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6840" y="6094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ersifying (aka Disruptive)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vironmental conditions favor both varia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often results in polymophis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973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6840" y="6094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key here is to recognize that the may be different “modes” of selection, the basic theory of natural selection is the sa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1:40:02Z</dcterms:created>
  <dc:creator>ED18</dc:creator>
  <dc:description/>
  <dc:language>en-US</dc:language>
  <cp:lastModifiedBy>ED18</cp:lastModifiedBy>
  <dcterms:modified xsi:type="dcterms:W3CDTF">2012-04-30T01:15:45Z</dcterms:modified>
  <cp:revision>3</cp:revision>
  <dc:subject/>
  <dc:title>Population dynamics</dc:title>
</cp:coreProperties>
</file>